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golly.wav" ContentType="audio/x-wav"/>
  <Override PartName="/ppt/media/moneylove.wav" ContentType="audio/x-wav"/>
  <Override PartName="/ppt/media/image6.png" ContentType="image/png"/>
  <Override PartName="/ppt/media/pillsby.wav" ContentType="audio/x-wav"/>
  <Override PartName="/ppt/media/ques-answ.wav" ContentType="audio/x-wav"/>
  <Override PartName="/ppt/media/image8.gif" ContentType="image/gif"/>
  <Override PartName="/ppt/media/nerve.wav" ContentType="audio/x-wav"/>
  <Override PartName="/ppt/media/image2.png" ContentType="image/png"/>
  <Override PartName="/ppt/media/laff-elf.wav" ContentType="audio/x-wav"/>
  <Override PartName="/ppt/media/whoosh.wav" ContentType="audio/x-wav"/>
  <Override PartName="/ppt/media/image5.png" ContentType="image/png"/>
  <Override PartName="/ppt/media/image3.png" ContentType="image/png"/>
  <Override PartName="/ppt/media/hmmnotbad.wav" ContentType="audio/x-wav"/>
  <Override PartName="/ppt/media/laser.wav" ContentType="audio/x-wav"/>
  <Override PartName="/ppt/media/image4.png" ContentType="image/png"/>
  <Override PartName="/ppt/media/welldon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CE75-58F2-4C8F-B4AA-78A04E11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09C5-E01D-44EF-ADB8-2925D77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E8FF-EDE3-40DF-8623-5ABCB3BD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1AE1-D27E-4279-BD83-CC816203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1036-78B7-4D5B-BF5D-BFB442D5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0A4D-0F8A-470D-AB9F-7183C1A7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163D-52BA-42FE-9638-6711B809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A952-9327-4970-8706-D93910F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006F-63AD-4873-A60A-59A76A81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EDE4-05B3-4863-BD3B-5915955B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8CE7-887A-43A6-A197-C2DA5C1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80A4-17F3-410E-AE13-0857A4C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A5F4-4489-44FA-BCE2-0F4B25FF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FD61-C8E4-48F4-AFEB-B34527FF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F2A0-EE3C-4069-B3F6-F23424B8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D5E4-154C-47D5-9E51-16CCA320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84F6-EE2C-4399-9FD8-1CAC2E69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9C38-4ADE-46CC-ABA9-EA8BAA02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BFE6-D1AD-47DD-ABDB-F79D13BC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C44F-26F1-43D0-B745-F476A84C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01CB-4922-42CD-95F3-9E0FEBDE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58E3-2A04-4355-81CB-AD4E0D2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A948-6DD2-4CEE-99DF-9CB683D1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4508-C386-4673-9571-346ABF7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F2A1-9BE9-4EDC-BBE2-81A1DC54D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B7AF-F8FD-44E5-B6F5-0FFB64637388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moneylov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ff-elf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nerv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pillsby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goll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ques-ans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hmmnotba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elldon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Weed Is a Flower</a:t>
            </a:r>
            <a:endParaRPr b="0" lang="en-US" sz="5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reated by Joanne Whitley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December 12, 2007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Picture 5" descr="weed"/>
          <p:cNvPicPr/>
          <p:nvPr/>
        </p:nvPicPr>
        <p:blipFill>
          <a:blip r:embed="rId1"/>
          <a:stretch/>
        </p:blipFill>
        <p:spPr>
          <a:xfrm>
            <a:off x="58680" y="2971800"/>
            <a:ext cx="2684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4267080"/>
            <a:ext cx="73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I wish I made more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money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" name="Picture 4" descr="moneybills"/>
          <p:cNvPicPr/>
          <p:nvPr/>
        </p:nvPicPr>
        <p:blipFill>
          <a:blip r:embed="rId1"/>
          <a:stretch/>
        </p:blipFill>
        <p:spPr>
          <a:xfrm>
            <a:off x="1828800" y="1066680"/>
            <a:ext cx="4343400" cy="293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moneylov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40384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My neighbor        is a clown!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600200" y="4038480"/>
            <a:ext cx="4648320" cy="99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3" name="Picture 8" descr="clown"/>
          <p:cNvPicPr/>
          <p:nvPr/>
        </p:nvPicPr>
        <p:blipFill>
          <a:blip r:embed="rId1"/>
          <a:stretch/>
        </p:blipFill>
        <p:spPr>
          <a:xfrm>
            <a:off x="1295280" y="457200"/>
            <a:ext cx="3162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04920" y="4038480"/>
            <a:ext cx="8534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My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neighbor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 is a clown!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5" name="Picture 4" descr="clown"/>
          <p:cNvPicPr/>
          <p:nvPr/>
        </p:nvPicPr>
        <p:blipFill>
          <a:blip r:embed="rId1"/>
          <a:stretch/>
        </p:blipFill>
        <p:spPr>
          <a:xfrm>
            <a:off x="1295280" y="457200"/>
            <a:ext cx="31626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laff-elf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4038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The twins wear the same        clothes    . 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514600" y="5029200"/>
            <a:ext cx="5257800" cy="1143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8" name="Picture 4" descr="ashley"/>
          <p:cNvPicPr/>
          <p:nvPr/>
        </p:nvPicPr>
        <p:blipFill>
          <a:blip r:embed="rId1"/>
          <a:stretch/>
        </p:blipFill>
        <p:spPr>
          <a:xfrm>
            <a:off x="1523880" y="1143000"/>
            <a:ext cx="2152800" cy="251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ashley"/>
          <p:cNvPicPr/>
          <p:nvPr/>
        </p:nvPicPr>
        <p:blipFill>
          <a:blip r:embed="rId2"/>
          <a:stretch/>
        </p:blipFill>
        <p:spPr>
          <a:xfrm>
            <a:off x="4876920" y="1143000"/>
            <a:ext cx="2152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403848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The twins wear the same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clothes</a:t>
            </a: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. 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1" name="Picture 4" descr="ashley"/>
          <p:cNvPicPr/>
          <p:nvPr/>
        </p:nvPicPr>
        <p:blipFill>
          <a:blip r:embed="rId1"/>
          <a:stretch/>
        </p:blipFill>
        <p:spPr>
          <a:xfrm>
            <a:off x="1523880" y="1143000"/>
            <a:ext cx="2152800" cy="251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ashley"/>
          <p:cNvPicPr/>
          <p:nvPr/>
        </p:nvPicPr>
        <p:blipFill>
          <a:blip r:embed="rId2"/>
          <a:stretch/>
        </p:blipFill>
        <p:spPr>
          <a:xfrm>
            <a:off x="4876920" y="1143000"/>
            <a:ext cx="215244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nerv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80880" y="36576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I am an   only   child.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4" name="Picture 8" descr="babyasleep"/>
          <p:cNvPicPr/>
          <p:nvPr/>
        </p:nvPicPr>
        <p:blipFill>
          <a:blip r:embed="rId1"/>
          <a:stretch/>
        </p:blipFill>
        <p:spPr>
          <a:xfrm>
            <a:off x="2286000" y="990720"/>
            <a:ext cx="3500280" cy="1761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3505320" y="3657600"/>
            <a:ext cx="2819160" cy="1143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80880" y="3657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I am an </a:t>
            </a:r>
            <a:r>
              <a:rPr b="0" lang="en-US" sz="8800" spc="-1" strike="noStrike">
                <a:solidFill>
                  <a:srgbClr val="ff3300"/>
                </a:solidFill>
                <a:latin typeface="Comic Sans MS"/>
              </a:rPr>
              <a:t>only</a:t>
            </a:r>
            <a:r>
              <a:rPr b="0" lang="en-US" sz="6600" spc="-1" strike="noStrike">
                <a:solidFill>
                  <a:srgbClr val="003300"/>
                </a:solidFill>
                <a:latin typeface="Comic Sans MS"/>
              </a:rPr>
              <a:t> child.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7" name="Picture 3" descr="babyasleep"/>
          <p:cNvPicPr/>
          <p:nvPr/>
        </p:nvPicPr>
        <p:blipFill>
          <a:blip r:embed="rId1"/>
          <a:stretch/>
        </p:blipFill>
        <p:spPr>
          <a:xfrm>
            <a:off x="2286000" y="990720"/>
            <a:ext cx="3500280" cy="176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6870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Watch the words carefully as they flash on the screen.  Spell the words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44640" y="3116160"/>
            <a:ext cx="521496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only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6858000" cy="21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36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3300"/>
                </a:solidFill>
                <a:latin typeface="Arial"/>
              </a:rPr>
              <a:t>clothes</a:t>
            </a:r>
            <a:endParaRPr b="0" lang="en-US" sz="14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0440" y="2572920"/>
            <a:ext cx="8223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3300"/>
                </a:solidFill>
                <a:latin typeface="Arial"/>
              </a:rPr>
              <a:t>hours</a:t>
            </a:r>
            <a:endParaRPr b="0" lang="en-US" sz="1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only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question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othes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money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hours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neighbor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taught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228600"/>
            <a:ext cx="71629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Comic Sans MS"/>
              </a:rPr>
              <a:t>Chant the words one time as they appear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0440" y="2572920"/>
            <a:ext cx="8223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taught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0440" y="2572920"/>
            <a:ext cx="8223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question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0440" y="2572920"/>
            <a:ext cx="8223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money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0440" y="2572920"/>
            <a:ext cx="8223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neighbor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14040" y="1218960"/>
            <a:ext cx="7380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003300"/>
                </a:solidFill>
                <a:latin typeface="Arial"/>
              </a:rPr>
              <a:t>Goll-l-l-y!</a:t>
            </a:r>
            <a:endParaRPr b="0" lang="en-US" sz="13300" spc="-1" strike="noStrike">
              <a:solidFill>
                <a:srgbClr val="003300"/>
              </a:solidFill>
              <a:latin typeface="Arial"/>
            </a:endParaRPr>
          </a:p>
          <a:p>
            <a:pPr marL="29484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00"/>
                </a:solidFill>
                <a:latin typeface="Arial"/>
              </a:rPr>
              <a:t>You’ve done it again!</a:t>
            </a:r>
            <a:endParaRPr b="0" lang="en-US" sz="9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split dir="out" orient="horz"/>
    <p:sndAc>
      <p:stSnd>
        <p:snd r:embed="rId1" name="goll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304920" y="3886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May I ask you a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question       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838080" y="4876920"/>
            <a:ext cx="4572000" cy="99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3" name="Picture 9" descr="questions"/>
          <p:cNvPicPr/>
          <p:nvPr/>
        </p:nvPicPr>
        <p:blipFill>
          <a:blip r:embed="rId1"/>
          <a:stretch/>
        </p:blipFill>
        <p:spPr>
          <a:xfrm>
            <a:off x="4114800" y="914400"/>
            <a:ext cx="2743200" cy="2682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447920" y="3886200"/>
            <a:ext cx="655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May I ask you a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question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Picture 4" descr="questions"/>
          <p:cNvPicPr/>
          <p:nvPr/>
        </p:nvPicPr>
        <p:blipFill>
          <a:blip r:embed="rId1"/>
          <a:stretch/>
        </p:blipFill>
        <p:spPr>
          <a:xfrm>
            <a:off x="3124080" y="838080"/>
            <a:ext cx="2743200" cy="268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ques-ans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380880" y="373392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It took me two hours        to do my homework!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943600" y="3733920"/>
            <a:ext cx="2895480" cy="99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Picture 6" descr="clockfac"/>
          <p:cNvPicPr/>
          <p:nvPr/>
        </p:nvPicPr>
        <p:blipFill>
          <a:blip r:embed="rId1"/>
          <a:stretch/>
        </p:blipFill>
        <p:spPr>
          <a:xfrm>
            <a:off x="4572000" y="533520"/>
            <a:ext cx="30574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80880" y="373392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It took me two </a:t>
            </a:r>
            <a:r>
              <a:rPr b="0" lang="en-US" sz="7200" spc="-1" strike="noStrike">
                <a:solidFill>
                  <a:srgbClr val="ff3300"/>
                </a:solidFill>
                <a:latin typeface="Comic Sans MS"/>
              </a:rPr>
              <a:t>hours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        to do my homework!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Picture 4" descr="clockfac"/>
          <p:cNvPicPr/>
          <p:nvPr/>
        </p:nvPicPr>
        <p:blipFill>
          <a:blip r:embed="rId1"/>
          <a:stretch/>
        </p:blipFill>
        <p:spPr>
          <a:xfrm>
            <a:off x="4572000" y="533520"/>
            <a:ext cx="30574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hmmnotba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44197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The teacher  taught   us about Mexico. 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Picture 5" descr="teachchalk"/>
          <p:cNvPicPr/>
          <p:nvPr/>
        </p:nvPicPr>
        <p:blipFill>
          <a:blip r:embed="rId1"/>
          <a:stretch/>
        </p:blipFill>
        <p:spPr>
          <a:xfrm>
            <a:off x="1828800" y="838080"/>
            <a:ext cx="4876920" cy="2914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4648320" y="4495680"/>
            <a:ext cx="403848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419720"/>
            <a:ext cx="87631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The teacher 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taught</a:t>
            </a: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   us about Mexico. 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5" name="Picture 3" descr="teachchalk"/>
          <p:cNvPicPr/>
          <p:nvPr/>
        </p:nvPicPr>
        <p:blipFill>
          <a:blip r:embed="rId1"/>
          <a:stretch/>
        </p:blipFill>
        <p:spPr>
          <a:xfrm>
            <a:off x="1828800" y="838080"/>
            <a:ext cx="4876920" cy="291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welldon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42670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Comic Sans MS"/>
              </a:rPr>
              <a:t>I wish I made more money           .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80880" y="5334120"/>
            <a:ext cx="4648320" cy="99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Picture 6" descr="moneybills"/>
          <p:cNvPicPr/>
          <p:nvPr/>
        </p:nvPicPr>
        <p:blipFill>
          <a:blip r:embed="rId1"/>
          <a:stretch/>
        </p:blipFill>
        <p:spPr>
          <a:xfrm>
            <a:off x="1828800" y="1066680"/>
            <a:ext cx="4343400" cy="293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5:01:34Z</dcterms:created>
  <dc:creator>default</dc:creator>
  <dc:description/>
  <cp:keywords/>
  <dc:language>en-US</dc:language>
  <cp:lastModifiedBy>teacher</cp:lastModifiedBy>
  <dcterms:modified xsi:type="dcterms:W3CDTF">2010-12-06T02:46:22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651033</vt:lpwstr>
  </property>
</Properties>
</file>